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DD1-3818-46BB-94A4-68F9AEF2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DD8-4789-473B-AAAA-AFB94FD3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969-BE3A-409C-AC65-72D6A944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31C-55D9-40E3-9B41-27070404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163-2FA7-4DE9-9BDE-0C151EBB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340-C2BD-432E-9FA5-3678F7D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9C9-0046-4B05-BAFB-D66B411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896-FCA7-4216-A719-B24A999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54D-0B1C-4131-9464-1E9451E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AB2-0FF5-417F-A9EF-A276F45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8CD-FCD8-495D-B03A-D8D3F64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DA5-247F-49E5-BECF-0EEF1F3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D5C9-6BAE-46FE-A6D2-9B9ECB39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581280"/>
            <a:ext cx="3962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9720" y="399420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operative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my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7680" y="4572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0640" y="83059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160" y="7696080"/>
            <a:ext cx="785520" cy="106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5960" y="81532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04920"/>
            <a:ext cx="6400800" cy="85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362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495320" y="228600"/>
            <a:ext cx="22100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51814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1295280" cy="5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81280" y="7848720"/>
            <a:ext cx="1067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04:39:10Z</dcterms:created>
  <dc:creator>Trevor Bettison</dc:creator>
  <dc:description/>
  <dc:language>en-US</dc:language>
  <cp:lastModifiedBy>Trevor</cp:lastModifiedBy>
  <dcterms:modified xsi:type="dcterms:W3CDTF">2008-08-20T20:07:56Z</dcterms:modified>
  <cp:revision>9</cp:revision>
  <dc:subject/>
  <dc:title>PowerPoint Presentation</dc:title>
</cp:coreProperties>
</file>